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A0F6-70C6-4021-9A70-247D29B210C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6557-8ADD-4680-935A-1C188356824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214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НОВНИ ПРИНЦИПИ ФАРМАКОКИНЕТИКЕ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Терапијски  мониторинг лекова у телесним течностима</a:t>
            </a:r>
            <a:r>
              <a:rPr b="0" lang="sr-Latn-CS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990720" y="914400"/>
            <a:ext cx="723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Интегрисане ак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демске студије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 фармациј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Клиничка фармација 1 – Г0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Предавање бр.8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5E2A-8717-4B0D-B5AF-AF7FF31C3747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армакокинетички параметри за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тималан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жим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зирања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ЛУМЕН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СТРИБУЦИ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c00000"/>
                </a:solidFill>
                <a:latin typeface="Arial"/>
              </a:rPr>
              <a:t>V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ИРЕНС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c00000"/>
                </a:solidFill>
                <a:latin typeface="Arial"/>
              </a:rPr>
              <a:t>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УВРЕМ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ЛИМ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ЦИ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т</a:t>
            </a:r>
            <a:r>
              <a:rPr b="1" lang="sr-Latn-CS" sz="3200" spc="-1" strike="noStrike" baseline="-25000">
                <a:solidFill>
                  <a:srgbClr val="c00000"/>
                </a:solidFill>
                <a:latin typeface="Arial"/>
              </a:rPr>
              <a:t>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D19C-C645-443F-B297-7FF9BFE07FB4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лумен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стрибу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457200" y="1905120"/>
            <a:ext cx="86868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Волуме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дистрибу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В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запреми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ко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б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заузе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ле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уне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ак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б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сви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ткиви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налази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истој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концентрациј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ка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плазм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доза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лек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Волумен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дистрибуције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концентрација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лека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плазми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1800" spc="-1" strike="noStrike">
                <a:solidFill>
                  <a:srgbClr val="ff0000"/>
                </a:solidFill>
                <a:latin typeface="Comic Sans MS"/>
              </a:rPr>
              <a:t>одм</a:t>
            </a:r>
            <a:r>
              <a:rPr b="0" lang="sr-Latn-CS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sr-RS" sz="1800" spc="-1" strike="noStrike">
                <a:solidFill>
                  <a:srgbClr val="ff0000"/>
                </a:solidFill>
                <a:latin typeface="Comic Sans MS"/>
              </a:rPr>
              <a:t>х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после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примен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3429000" y="4648320"/>
            <a:ext cx="5029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AA5B-9955-4D55-B077-D185AFCB6474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колико је волумен дистрибуције око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5 литар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може се претпоставити да се лек дистрибуирао, само у интраваскуларном простору и да није мога да изађе из крвних судова (плазма-експандер декстран 7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 је волумен дистрибуције око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15 литар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може се претпоставити да се лек дистрибуирао у оквиру екстрацелуларне течности, да није липосолубилан и да не продире унутар ћелија, нити у ЦН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 је волумен дистрибуције око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40 литар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лек је продро у све ћелије организма, а уколико је  већи од 40 литара, то значи да се лек негде и депоновао у организ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9894-3299-4F16-8B94-5BB3E59C9972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ИРЕНС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8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Клиренс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ремин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азм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в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к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тпуно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клон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единиц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мен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Тотални</a:t>
            </a:r>
            <a:r>
              <a:rPr b="0" lang="pl-PL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клиренс</a:t>
            </a:r>
            <a:r>
              <a:rPr b="0" lang="pl-PL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изм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еднак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биру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иренс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тварују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једин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c00000"/>
                </a:solidFill>
                <a:latin typeface="Arial"/>
              </a:rPr>
              <a:t>Clt=Clr+Clm+Clb+Cl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остал</a:t>
            </a:r>
            <a:r>
              <a:rPr b="0" lang="pl-PL" sz="2400" spc="-1" strike="noStrike">
                <a:solidFill>
                  <a:srgbClr val="c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стемск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иренс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кључен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чин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аболисањ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lr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налн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ирен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lm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аболичк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иренс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етрен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иотрансформациј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lb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илијарн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иренс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илијарн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кскрециј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l ostalo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ирен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тали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чи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улмонар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F643-BCFE-446A-B26A-602E7374F988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кстракцион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нос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(E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фракција</a:t>
            </a:r>
            <a:r>
              <a:rPr b="0" lang="pl-PL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лека</a:t>
            </a:r>
            <a:r>
              <a:rPr b="0" lang="pl-PL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ју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к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лиминиш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ун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тра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напоље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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ун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ун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тра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в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л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напољ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в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лаз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иренс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г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рачунат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т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в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(Q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оз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множ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кстракц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м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орган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=Q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иренс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аметар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е</a:t>
            </a:r>
            <a:r>
              <a:rPr b="1" i="1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зависи</a:t>
            </a:r>
            <a:r>
              <a:rPr b="1" i="1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од</a:t>
            </a:r>
            <a:r>
              <a:rPr b="1" i="1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модел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2B3B-2BF8-4599-A60A-7A16A667884C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к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њујемо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дну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ус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зу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разумевамо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к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ментално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стрибуира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а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разумевамо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елиминацију</a:t>
            </a:r>
            <a:r>
              <a:rPr b="0" lang="pl-PL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c00000"/>
                </a:solidFill>
                <a:latin typeface="Arial"/>
              </a:rPr>
              <a:t>I</a:t>
            </a:r>
            <a:r>
              <a:rPr b="0" lang="pl-PL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реда</a:t>
            </a:r>
            <a:r>
              <a:rPr b="0" lang="pl-PL" sz="2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лиминације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вог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да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диници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ремена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лиминише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век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та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фракција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рганизму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лиминације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О</a:t>
            </a:r>
            <a:r>
              <a:rPr b="0" lang="pl-PL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реда</a:t>
            </a:r>
            <a:r>
              <a:rPr b="0" lang="pl-PL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личина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лиминише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ња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виси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центрације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рганизму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то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ња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ракција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16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центрациј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л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мен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лус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з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нес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милогаритамски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афик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к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лиминиш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инетици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д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биј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нија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лиминиш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инетици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д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биј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ив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ниј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Straight Arrow Connector 6"/>
          <p:cNvCxnSpPr/>
          <p:nvPr/>
        </p:nvCxnSpPr>
        <p:spPr>
          <a:xfrm flipV="1">
            <a:off x="685440" y="3656880"/>
            <a:ext cx="1080" cy="259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Straight Arrow Connector 8"/>
          <p:cNvCxnSpPr/>
          <p:nvPr/>
        </p:nvCxnSpPr>
        <p:spPr>
          <a:xfrm>
            <a:off x="685800" y="6248160"/>
            <a:ext cx="28202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Straight Connector 13"/>
          <p:cNvSpPr/>
          <p:nvPr/>
        </p:nvSpPr>
        <p:spPr>
          <a:xfrm>
            <a:off x="685800" y="4191120"/>
            <a:ext cx="220968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1" name="Straight Arrow Connector 14"/>
          <p:cNvCxnSpPr/>
          <p:nvPr/>
        </p:nvCxnSpPr>
        <p:spPr>
          <a:xfrm flipV="1">
            <a:off x="5105160" y="3656880"/>
            <a:ext cx="1080" cy="259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Straight Arrow Connector 15"/>
          <p:cNvCxnSpPr/>
          <p:nvPr/>
        </p:nvCxnSpPr>
        <p:spPr>
          <a:xfrm>
            <a:off x="5105160" y="6248160"/>
            <a:ext cx="28198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3" name="Arc 2"/>
          <p:cNvSpPr/>
          <p:nvPr/>
        </p:nvSpPr>
        <p:spPr>
          <a:xfrm>
            <a:off x="5181480" y="3886200"/>
            <a:ext cx="2316240" cy="2395440"/>
          </a:xfrm>
          <a:custGeom>
            <a:avLst/>
            <a:gdLst>
              <a:gd name="textAreaLeft" fmla="*/ 0 w 2316240"/>
              <a:gd name="textAreaRight" fmla="*/ 2316600 w 2316240"/>
              <a:gd name="textAreaTop" fmla="*/ 0 h 2395440"/>
              <a:gd name="textAreaBottom" fmla="*/ 2395800 h 2395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Box 21"/>
          <p:cNvSpPr/>
          <p:nvPr/>
        </p:nvSpPr>
        <p:spPr>
          <a:xfrm>
            <a:off x="685800" y="6324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Кинетика I ред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Box 22"/>
          <p:cNvSpPr/>
          <p:nvPr/>
        </p:nvSpPr>
        <p:spPr>
          <a:xfrm>
            <a:off x="3583440" y="60958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Rectangle 24"/>
          <p:cNvSpPr/>
          <p:nvPr/>
        </p:nvSpPr>
        <p:spPr>
          <a:xfrm>
            <a:off x="8079480" y="60199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Box 25"/>
          <p:cNvSpPr/>
          <p:nvPr/>
        </p:nvSpPr>
        <p:spPr>
          <a:xfrm>
            <a:off x="5176080" y="63244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Кинетика 0 ред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Box 26"/>
          <p:cNvSpPr/>
          <p:nvPr/>
        </p:nvSpPr>
        <p:spPr>
          <a:xfrm rot="16200000">
            <a:off x="-1469520" y="4359240"/>
            <a:ext cx="376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 (плазма концентрација лека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Box 27"/>
          <p:cNvSpPr/>
          <p:nvPr/>
        </p:nvSpPr>
        <p:spPr>
          <a:xfrm rot="16200000">
            <a:off x="2949840" y="4359240"/>
            <a:ext cx="376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 (плазма концентрација лека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A855-6DCB-413D-AFE1-FF8F7768B695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ћин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тимикробних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ков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пр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миногликозид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фалоспорин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нкомицин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лиминиш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инетиц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д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н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обичајен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з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јачин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з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тич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армакокинетичк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метр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ећање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з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ц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ећав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личи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лиминиш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к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ракц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лиминиш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AAE9-B245-44F8-A3E5-6D401DBA43DE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к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ков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пр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енитоин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н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соким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зам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лиминиш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инетиц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д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ећање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з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ц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ећав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личи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лиминиш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к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ракц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лиминиш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НСТАНТА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ЛИМИНАЦИЈ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51920" y="1523880"/>
            <a:ext cx="899172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станта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лиминације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ставља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ракцију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клања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единици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мена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то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единице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ципрочне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мену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mi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н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а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ође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вори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ју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ракцију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ће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единици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мена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мањити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азма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центр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ј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к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nC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 + lnC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ва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едначина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тилогаритмов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и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=C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fr-FR" sz="3200" spc="-1" strike="noStrike" baseline="30000">
                <a:solidFill>
                  <a:srgbClr val="000000"/>
                </a:solidFill>
                <a:latin typeface="Arial"/>
              </a:rPr>
              <a:t>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вим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једначинама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видети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азми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било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м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ремену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ле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м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једначин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</a:rPr>
              <a:t>K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казује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ракцију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четне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центрације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т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и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ми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л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р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07AC-A530-45BD-96D9-248C79A80F37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зајамн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нос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армакокинетичких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метар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ив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центра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ос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рем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рши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п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ив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ИК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уме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стрибу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иренс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УВРЕ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ЛИ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ЦИ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т</a:t>
            </a:r>
            <a:r>
              <a:rPr b="1" lang="sr-Latn-CS" sz="2400" spc="-1" strike="noStrike" baseline="-25000">
                <a:solidFill>
                  <a:srgbClr val="c00000"/>
                </a:solidFill>
                <a:latin typeface="Arial"/>
              </a:rPr>
              <a:t>1/2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у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вот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ем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зми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мањи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овину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у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вот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станта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лиминациј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казују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лико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рзо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к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клања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зм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.  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0,693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K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traight Connector 4"/>
          <p:cNvSpPr/>
          <p:nvPr/>
        </p:nvSpPr>
        <p:spPr>
          <a:xfrm>
            <a:off x="3809880" y="58672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ЗЕ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МЕЂУ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АРМАКОКИНЕТСКИХ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РАМЕТАР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Веза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лиренса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волумена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истрибуциј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онстант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елиминациј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s/V=K    ili    CLs=V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онстанта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елиминације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рива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лазми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време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000000"/>
                </a:solidFill>
                <a:latin typeface="Arial"/>
              </a:rPr>
              <a:t>зависе</a:t>
            </a: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лиренса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волумена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истрибуције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лиренс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оза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AU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0F36-A8A5-466C-AF2C-1A40D96479C0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ВНОТЕЖНО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внотежно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њ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стај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л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в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застопн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з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ксималн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нималн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центрациј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азм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тају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зном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рвалу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внотежног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њ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луч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л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з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м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љ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умулациј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ков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ћом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рзином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лиминациј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стижу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внотежно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њ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рж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ков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њом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рзином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лимин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внотежно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њ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иж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л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C05D-AFA5-4013-9335-CB008FEB7A4C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к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ло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рзино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лиминације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ли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лумено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стрибуције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ће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стићи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центрације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внотежно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њу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го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к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лико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рзино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лиминације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лики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лумено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стрибуције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центрације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внотежном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њу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ећати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чина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ећањем дозе лека уз исти дозни интер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раћењем дозног интервала уз исту до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аки пут када се мењају дозе или дозни интервал, потребно је 5Т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да се достигне ново равнотежно стањ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74BA-1D56-4976-834E-1746677B3C6D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ФЕКАТ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СТАНТЕ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ЛИМИНАЦИЈЕ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ЗНОГ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ТЕРВАЛА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ЗЕ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ЦЕНТРАЦИЈУ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АЗ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мањи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ест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јетре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убрега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да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ту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m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mins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ањуј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лик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ђу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m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mins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1/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т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мањује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зни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тервал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да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ту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m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mins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ањуј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лик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ђу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m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mins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/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тај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то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већа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за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X0)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да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ту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m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mins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т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лик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ђу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m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mins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/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тај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то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33A9-9EDB-4C07-8CC0-AD503269A2CB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ТИЦАЈ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ЛУМЕНА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ИСТРИБУЦИЈЕ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ИРЕНСА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ЦЕНТРАЦИЈУ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АЗ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лумен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стрибуциј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ћав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ков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стрибуирају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лесној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ди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дем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суфицијенциј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убрег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чан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суфицијенциј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сцитес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пс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ипоалбуминемиј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води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ћањ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лумен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стрибуциј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ков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ст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зују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теин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зм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нитоин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лумен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стрибуције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ањује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хидратацији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раст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лумена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стрибуције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води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ањења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нотежном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њу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зми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ањење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лумена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стрибуције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води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ћања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зми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нотежном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њу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раст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лиренса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води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ањења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зми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нотежном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њу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ањењ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лиренс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води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раст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зми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нотежном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њу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1539-0980-49A7-B67E-4BB3ED6EAB14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137160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армакодинамик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овор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носу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међу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нцентрациј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ек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есту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ловањ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зултујућег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фект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кључујућ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ременск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о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тензите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рапијског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жељеног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ј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533520" y="3505320"/>
            <a:ext cx="15238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ежим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озирањ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2590920" y="3505320"/>
            <a:ext cx="1981080" cy="167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Концентрациј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лека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лазм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572000" y="3505320"/>
            <a:ext cx="1219320" cy="1676160"/>
          </a:xfrm>
          <a:prstGeom prst="rect">
            <a:avLst/>
          </a:prstGeom>
          <a:solidFill>
            <a:srgbClr val="fca9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Мест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деловањ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6553080" y="3429000"/>
            <a:ext cx="182880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ефекa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1447920" y="2895480"/>
            <a:ext cx="2286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фармакокинетик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Rectangle 14"/>
          <p:cNvSpPr/>
          <p:nvPr/>
        </p:nvSpPr>
        <p:spPr>
          <a:xfrm>
            <a:off x="5029200" y="2895480"/>
            <a:ext cx="25146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фармакодинамик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AutoShape 17"/>
          <p:cNvSpPr/>
          <p:nvPr/>
        </p:nvSpPr>
        <p:spPr>
          <a:xfrm rot="5400000">
            <a:off x="1485720" y="4686120"/>
            <a:ext cx="1219320" cy="2666880"/>
          </a:xfrm>
          <a:custGeom>
            <a:avLst/>
            <a:gdLst>
              <a:gd name="textAreaLeft" fmla="*/ 163080 w 1219320"/>
              <a:gd name="textAreaRight" fmla="*/ 1056240 w 1219320"/>
              <a:gd name="textAreaTop" fmla="*/ 466560 h 2666880"/>
              <a:gd name="textAreaBottom" fmla="*/ 193356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AutoShape 19"/>
          <p:cNvSpPr/>
          <p:nvPr/>
        </p:nvSpPr>
        <p:spPr>
          <a:xfrm rot="5400000">
            <a:off x="5752800" y="4381560"/>
            <a:ext cx="1219320" cy="2971800"/>
          </a:xfrm>
          <a:custGeom>
            <a:avLst/>
            <a:gdLst>
              <a:gd name="textAreaLeft" fmla="*/ 163080 w 1219320"/>
              <a:gd name="textAreaRight" fmla="*/ 1056240 w 1219320"/>
              <a:gd name="textAreaTop" fmla="*/ 519840 h 2971800"/>
              <a:gd name="textAreaBottom" fmla="*/ 21546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2133720" y="4343400"/>
            <a:ext cx="38088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Line 21"/>
          <p:cNvSpPr/>
          <p:nvPr/>
        </p:nvSpPr>
        <p:spPr>
          <a:xfrm>
            <a:off x="5943600" y="4343400"/>
            <a:ext cx="53352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C168-0D12-413B-9E98-1D7CB73571C8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армакокинетик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армакодинами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1828800"/>
            <a:ext cx="17524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рописан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озни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ежи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2743200" y="1828800"/>
            <a:ext cx="2514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Лек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на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есту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еловањ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6781680" y="1905120"/>
            <a:ext cx="20574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Ефекти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лека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1828800" y="2286000"/>
            <a:ext cx="7621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5486400" y="2286000"/>
            <a:ext cx="9144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304920" y="3429000"/>
            <a:ext cx="3504960" cy="342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Комплијанс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Правилно</a:t>
            </a:r>
            <a:r>
              <a:rPr b="0" lang="sr-Latn-C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дозирања</a:t>
            </a:r>
            <a:r>
              <a:rPr b="0" lang="sr-Latn-C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грешк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Апсорпциј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Маса</a:t>
            </a:r>
            <a:r>
              <a:rPr b="0" lang="sr-Latn-C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волумен</a:t>
            </a:r>
            <a:r>
              <a:rPr b="0" lang="sr-Latn-C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телесних</a:t>
            </a:r>
            <a:r>
              <a:rPr b="0" lang="sr-Latn-C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течност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Интеракције</a:t>
            </a:r>
            <a:r>
              <a:rPr b="0" lang="sr-Latn-C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леков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Елиминациј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Процеси</a:t>
            </a:r>
            <a:r>
              <a:rPr b="0" lang="sr-Latn-C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метаболизм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5638680" y="3505320"/>
            <a:ext cx="3276720" cy="2743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Статус</a:t>
            </a:r>
            <a:r>
              <a:rPr b="0" lang="sr-Latn-C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рецептор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Генетске</a:t>
            </a:r>
            <a:r>
              <a:rPr b="0" lang="sr-Latn-C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предиспозициј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Интеракциј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Толеранциј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Узрас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Посебне</a:t>
            </a:r>
            <a:r>
              <a:rPr b="0" lang="sr-Latn-C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поулациј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5025-75D1-4D62-A991-41AF0CC128FB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ноги фармакокинетички фактори утичу на концентрацију лека у плазми, односно на одговор појединца на ле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дивидуалне карактеристике пацијента (генетика) које утичу на метаболизам и елиминацију ле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аријације у апсорпц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изиолошко стање (узраст..) или болест утичу на промене у апсорпцији, дистрибуцији или елиминац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теракције ле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027D-CA6B-4F3A-860A-8D5FFA25EBEA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 већину лекова интериндивидуалне разлике утичу на разлике у постизању концентрације лека у плаз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Arial"/>
              </a:rPr>
              <a:t>Терапијски мониторинг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праћење концентрације лека у плазми има вредност када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тоји добра корелација између фармаколошког одговора и плазма концентр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да лек има узак терапијски индекс (терапијска конц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 блиска токсичној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да се фармаколошки ефе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не може другим средствима измерити (нпр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вни притисак и антихипертензиви 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да су интериндивидуалне разлике концентрације лека у плазми последица величине дозе лек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2F18-9379-4EC9-A720-E08AB5FD38CE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4572000" y="4419720"/>
            <a:ext cx="3962520" cy="838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СУБОПТИМАЛНИ</a:t>
            </a:r>
            <a:r>
              <a:rPr b="1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ЕФЕКА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Rectangle 16"/>
          <p:cNvSpPr/>
          <p:nvPr/>
        </p:nvSpPr>
        <p:spPr>
          <a:xfrm>
            <a:off x="4572000" y="2895480"/>
            <a:ext cx="396252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ТОКСИЧНОС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4746600" y="33447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4572000" y="3733920"/>
            <a:ext cx="3962520" cy="68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ОПТИМАЛНИ</a:t>
            </a:r>
            <a:r>
              <a:rPr b="1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ЕФЕКА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Rectangle 24"/>
          <p:cNvSpPr/>
          <p:nvPr/>
        </p:nvSpPr>
        <p:spPr>
          <a:xfrm>
            <a:off x="457200" y="1066680"/>
            <a:ext cx="83818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ко расте концентрација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лека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лазми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већава се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ризик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због примене лек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Line 26"/>
          <p:cNvSpPr/>
          <p:nvPr/>
        </p:nvSpPr>
        <p:spPr>
          <a:xfrm flipV="1">
            <a:off x="4038480" y="2209320"/>
            <a:ext cx="0" cy="388620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289548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 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Box 13"/>
          <p:cNvSpPr/>
          <p:nvPr/>
        </p:nvSpPr>
        <p:spPr>
          <a:xfrm>
            <a:off x="2743200" y="3581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 ma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8C4E-B3F2-4312-A608-BDA387AF4182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рапијски мониторинг лека је мерење концентрације у плазми ради одређивања оптималне  терапије болесника – у складу са индивидуалним потребама   болесника , као и карактеристикама ле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52AA-9139-4404-BBCA-4D259E68DB1C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рапијски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сези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к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ков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гоксин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0,9-2  ng/ml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ентамицин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2-10 mg/l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докаин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1,5-5 mg/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тијум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0,6 -1,4 mEq/l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енобарбитал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15-40 mg/l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енитоин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10-20 mg/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инидин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2-5 mg/l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офилин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10-20 mg/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Vesela</dc:creator>
  <dc:description/>
  <dc:language>en-US</dc:language>
  <cp:lastModifiedBy>User</cp:lastModifiedBy>
  <dcterms:modified xsi:type="dcterms:W3CDTF">2019-09-12T21:49:59Z</dcterms:modified>
  <cp:revision>48</cp:revision>
  <dc:subject/>
  <dc:title>Развој фармацеутске делатности</dc:title>
</cp:coreProperties>
</file>